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D611-56EF-4106-9EFE-1F1C83E85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AF4-D889-4514-BDCC-6630F82D9B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box on pag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235-11D1-44B0-A79B-E331AF58B8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C8B8-68F7-4291-81E3-E8EEB966E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ABA-D6C4-4352-8D64-559130AE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D79-2E4C-44E3-9A36-4125776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A4C-2ACF-4905-A6E7-F529D85E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D38-5630-47F2-A3D3-101B97E3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47E-89D3-4B87-95AF-3B30FD5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1FA-DB9D-40D5-ADE6-CCB61142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60A-4AD9-4C3B-90D1-1726C36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FAF-6F33-4135-9344-414F1F6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05F-24AE-43CD-B44B-E8C3877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C93-E02A-4DF3-B215-7AAF3A0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08A-31C2-4BFF-9EAA-8AD971AD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0B7-FF65-4CCD-AEB2-61703ED7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23160" y="29718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6E09-A36F-4EE4-801B-CC99A1EFA24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ericanbar.org/content/dam/aba/migrated/aging/docs/MandatoryReportingProvisionsChart.authcheckdam.pdf" TargetMode="External"/><Relationship Id="rId2" Type="http://schemas.openxmlformats.org/officeDocument/2006/relationships/hyperlink" Target="http://www.americanbar.org/content/dam/aba/migrated/aging/docs/MandatoryReportingProvisionsChart.authcheckdam.pd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4648320" y="4038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use in Lat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usal or failure by those responsible to provide food, shelter, health care, or protection for a vulnerable older ad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ning signs include sunken eyes or loss of weight, extreme thirst, and beds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s when a caregiver is unable or unwilling to provide the necessary care for an older adult for whom he or she is respon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occur even when there is no willful desire to inflict physical or emotional di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ptoms for neglect include the fol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drawal or denial of health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reated injuries and ill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ial of adequate f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proper hygi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and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ional and permanent desertion of an older adult in any place (such as a hospital, nursing facility, shopping center, or public location) or leaving the person without the means or ability to obtain necessary food, clothing, shelter, health care, or financial sup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iegel, L., &amp; Klem, E. (2007). Reporting requirements: Provisions and citations in adult protective services laws, by state. Retrieved from </a:t>
            </a:r>
            <a:r>
              <a:rPr b="0" lang="en-US" sz="1000" spc="-1" strike="noStrike" u="sng">
                <a:solidFill>
                  <a:srgbClr val="3232c8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3232c8"/>
                </a:solidFill>
                <a:uFillTx/>
                <a:latin typeface="Verdana"/>
                <a:hlinkClick r:id="rId2"/>
              </a:rPr>
              <a:t>www.americanbar.org/content/dam/aba/migrated/aging/docs/MandatoryReportingProvisionsChart.authcheckdam.pdf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ulnerability and Undue Influ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s who are dependent on others for basic care are particularly vulner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victims are people are frail, vulnerable, and cannot help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s may not seek help du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ertainty about whom to talk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ertainty about what can be d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ar of not being believ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ar of getting involv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ulnerability and Undue Influ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ue influ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s when people use their role with the older adult to exploit the trust, dependency, and fear of oth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eptive use of power is used to gain control over the decision-making of the vulnerable adul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ulnerability is not related to the person’s intellig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gnitive impairment may make the manipulation easier to accomplis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equence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quences of elder abu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e emotional distress, higher rates of depression, higher rates of suic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 of dignity and misplaced feelings of self-blame and gui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 discussing the crime or participating in a medical exam with law enforcement and medical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lings of embarrassment that family members and/or neighbors will find out abuse occur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ivil Versus Criminal A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ermination of civil versus criminal action for abuse against older adults is extremely complex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ts of abandonment or commitment to an institution make many older adults reluctant to follow through with criminal court proceed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tutional settings prefer to handle their own “problems” and historically do not pursue criminal avenues for redr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dated Repor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ory reporting law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ly require physicians, nurses, social workers, and others designated by the state to report suspected abuse against older adults to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adult protective serv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ers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law to report suspected abuse or neglect vary by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porter is required to document when he or she saw abuse taking place or when there is a reasonable belief that it is occur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iegel, L., &amp; Klem, E. (2007). Reporting requirements: Provisions and citations in adult protective services laws, by state. Retrieved from http://www.americanbar.org/content/dam/aba/migrated/aging/docs/MandatoryReportingProvisionsChart.authcheckdam.pdf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lice Respon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 enforcement is encouraged to use a multidisciplinary approach in investig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lapping responsibilities of multiple state agencies is recomm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ppropriate course of action may be difficult to determine in neglectful sit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robable cause to believe a crime has been committed does exist, officers must consider existing domestic violence law in their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various categories of elder abu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ive examples of forms of violence against older adults that are unique to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the differences in civil versus criminal action in cases of abuse against older adul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the problems for the elder community in accessing criminal justice interven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s are the least likely to become victims of violent crime in the U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ty crime, not personal violence, typically provides the highest percentage of crime against persons age 65 or ol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ureau of Justice Statistics. (BJS). (2012). Violent crime against the elderly reported by law enforcement in Michigan, 2005–2009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Special Report: National Incident-Based Reporting Sustem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Department of Justic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va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 abuse is defined to include individuals who are 60 or 65 years and old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ivate nature of elder abuse makes it difficult to determine the exact numbers of individuals who are affec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tegorie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ltreatment falls within three categori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domestic elder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ltreatment by someone who has a special relationship with the older per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tutional elder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use of an older adult who lives in a long-term care facility, nursing home, or residential care fac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neglect or self-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of an older adult that threatens his or her own health or safe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icting or threatening to inflict physical pain or injury on a vulnerable older adult, or depriving that person of a basic ne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battering, assault, and inappropriate restrai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abuses range from slapping or shoving to restraining with ropes or chai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caregiver or other person uses enough force to cause injury or unnecessary pain, even if the harm was not inten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/Psycholog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ful infliction of mental or emotional anguish by threat, humiliation, intimidation, or other abusive con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difficult type of abuse to identif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verbal or nonverbal a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volve name-calling, using intimidating and threatening language, or causing fear, mental anguish, and emotional pain to the older ad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consensual sexual contact of any k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der victims are less likely to report sexual abuse than are younger vict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s range from sexual exhibition to inappropriate touching, photographing the person in suggestive poses, and forcing the person to look at porn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volve rape, sodomy, or coerced nu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Explo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legally taking, misuse, or concealment of funds, property, or assets of a vulnerable older ad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known as fiduciary abuse, financial abuse, economic abuse, and financial mistrea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vers a broad range of conduct that is difficult to define and to pr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rarely possible to prove criminal knowledge of incompetence and i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21:31:15Z</dcterms:created>
  <dc:creator>cjcoordccol</dc:creator>
  <dc:description/>
  <dc:language>en-US</dc:language>
  <cp:lastModifiedBy>Cecil, Kevin</cp:lastModifiedBy>
  <dcterms:modified xsi:type="dcterms:W3CDTF">2013-09-16T14:05:28Z</dcterms:modified>
  <cp:revision>91</cp:revision>
  <dc:subject/>
  <dc:title>Slide 1</dc:title>
</cp:coreProperties>
</file>